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08279"/>
        <c:axId val="9122163"/>
      </c:barChart>
      <c:catAx>
        <c:axId val="2508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2163"/>
        <c:crosses val="autoZero"/>
        <c:auto val="1"/>
        <c:lblAlgn val="ctr"/>
        <c:lblOffset val="100"/>
        <c:noMultiLvlLbl val="0"/>
      </c:catAx>
      <c:valAx>
        <c:axId val="91221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8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EE1-3E49-4238-9F90-D8CDBDDB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74FA-A820-4196-9700-44EB645C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FC06-F0DA-4CCF-A5A6-7A80F276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26FD-43D9-4244-A186-462ED551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6665-DB1A-40D3-866B-0EB29B01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AF8-8695-4ADE-BED4-DE11A9B8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2A0C-B921-4482-9071-183C25EE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63F-B2BC-4BB4-B200-C94634DC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8811-4F1A-40CB-84E7-95BE24AA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E73-610B-48F7-AF94-D920DE9C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B8D-1613-4132-A196-9CE6BF25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0D1C-0303-4BED-B515-DCB23D2D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B1A4C-E0AF-48B4-A29C-30AC6BADA4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