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D4877-D4E7-421C-8F19-392C7E9E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7DF5A-8DA8-46C8-9B75-4A106E02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BA0BF-D8B9-4FC0-8AF8-B9BF1AE6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606C1-7A9E-46D5-B484-FECD9F71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0EDCB-CB4D-4F3B-B9A9-8AFA7A95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18B0A-5E7B-4177-886B-4713DCC6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E41E9-08FE-4701-9709-C90E4A04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ACAC6-0E67-4423-9054-73267F52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B2894-75E7-4FA4-879C-D2B37A30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97C6D-0397-48FC-A25C-F81A125C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CAF8A-9236-417E-A907-4AE59146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803E3-9483-412F-A5F0-32D20835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9DAF5926-AD26-42A7-B373-D961F51CCC93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ss.sgi.com/bugzilla/show_bug.cgi?id=723" TargetMode="External"/><Relationship Id="rId2" Type="http://schemas.openxmlformats.org/officeDocument/2006/relationships/hyperlink" Target="http://oss.sgi.com/bugzilla/show_bug.cgi?id=723" TargetMode="External"/><Relationship Id="rId3" Type="http://schemas.openxmlformats.org/officeDocument/2006/relationships/hyperlink" Target="http://oss.sgi.com/bugzilla/show_bug.cgi?id=723" TargetMode="External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0 - Repai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6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is stage, the filesytem is in a mountable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the directories analysing all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directories with any corruption are rebuilt with whatever entries can be recov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ssing root directory is recre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inodes that are in a directory are marked reac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, any unreached inodes are put into lost+f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7D94E-9AC4-484D-BA39-68EBDE0BB7A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7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links for inodes are corrected based on the data collected in phase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49DA6-89A7-46FE-8A7C-8A77AC46E3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iaging xfs_check and xfs_repair probl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st of the time, inode information is requir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inode &lt;inode numb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root inode number can be derived from the superbloc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sb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print roo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or directories, we can also dump the contents from the extent list shown in the ino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dblock &lt;file offset in block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irectories have file offsets typically starting at 0, 8388608 and 16777216. Each of these offsets stores different information for a direc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filename and inode numbers at 0, hash values at 8388608 and free space information at 1677721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9E3D0-4A89-461A-909E-FE07923FAF3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and xfs_check should agre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8040" y="1052640"/>
            <a:ext cx="4160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one of the tools reports a problem when the other passed the filesystem, there is a problem with one of the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st likely xfs_re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ss.sgi.com/bugzilla/show_bug.cgi?id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=7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_check finds some errors on the filesys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link count mismatch for inode 387655 (name ?), nlink 0, counte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link count mismatch for inode 13313696 (name ?), nlink 0, counte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link count mismatch for inode 17197100 (name ?), nlink 0, counte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_repair reports no proble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200" y="1052640"/>
            <a:ext cx="4160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1 - find and verify superblock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2 - using internal 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zero log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scan filesystem freespace and inode map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found root inode chu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3 - for each AG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scan and clear agi unlinked list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process known inodes and perform inode discovery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process newly discovered inode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4 - check for duplicate block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setting up duplicate extent list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clear lost+found (if it exists) 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clearing existing "lost+found" i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marking entry "lost+found" to be dele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check for inodes claiming duplicate block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Phase 5 - rebuild AG headers and tree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reset superblock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6 - check inode connectivity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resetting contents of realtime bitmap and summary in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ensuring existence of lost+found direct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ing filesystem starting at /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rebuilding directory inode 1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al finished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ing all unattached subtrees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als finished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moving disconnected inodes to lost+found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7 - verify and correct link count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A52B6-BC91-410E-8DB2-E0953D9636D3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ump the offending inodes…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xfs_db -c "inode 387655" -c "print" /dev/sda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magic = 0x494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mode = 0407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version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format = 1 (loc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nlinkv1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size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nblock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extsize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nextent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unlinked =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fdir2.hdr.coun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fdir2.hdr.i8coun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fdir2.hdr.parent.i4 = 1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1B122-4B2B-4E22-8269-93208AFF23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and Repair Fails – Corrupted Lo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log is corrupted you will see an error like: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 mount &lt;filesystem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unt: Unknown error 9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 dmesg | tail -20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esystem “&lt;filesystem&gt;": xfs_inode_recover: Bad inode magic number . . 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esystem "dm-0": XFS internal error xlog_recover_do_inode_trans(1) at line 2352 of file fs/xfs/xfs_log_recover.c. Caller 0xffffffff88307729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ourier New"/>
              </a:rPr>
              <a:t>XFS: log mount/recovery failed: error 9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ourier New"/>
              </a:rPr>
              <a:t>XFS: log mount fail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 xfs_repair &lt;devic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hase 1 - find and verify superblock...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Phase 2 - using internal log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         - zero log...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ERROR: The filesystem has valuable metadata changes in a log which needs to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be replayed.  Mount the filesystem to replay the log, and unmount it befor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re-running xfs_repair.  If you are unable to mount the filesystem, then us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the -L option to destroy the log and attempt a repair.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Note that destroying the log may cause corruption -- please attempt a mount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of the filesystem before doing thi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Useful information can be collected for tria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/usr/sbin/xfs_logprint –C &lt;filename&gt; &lt;devic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/usr/sbin/xfs_logprint -t &lt;devic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ut in this case, the only option may be to throw the log aw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ourier New"/>
              </a:rPr>
              <a:t># xfs_repair -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0B971-3E08-4145-A34A-EA0E0EE8240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69CF5-BAFC-46A0-BA18-39542AE862F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tro to checking and repairing filesystems, why do we need to do thi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79DB9-DEF1-4E39-96C1-3879A66F46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check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check is a script that runs xfs_db to do a filesystem che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check" command in xfs_db scans all the metadata structures for in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check uses a different codebase to xfs_re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check and xfs_repair can be used to cross check each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s_check vs xfs_repair -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BF7F-6C8A-4ACA-A29E-538E7E4723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repair scans the filesystem and corrects any problems encount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repair performs a scan and repair in seven ph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hase relies on the previous phase to fix a certain class of potential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repair uses libxfs which is a partial port of the XFS kernel code to user-sp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18FD9-664C-4448-8D32-2ACCB7F0CD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1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, verify and fix super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uperblock is not found, xfs_repair will st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up a virtual mount structure for the common XFS code base (libxfs) to work fr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3E33-EDA6-4F33-A05A-F25084252F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2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 the AG header structures (AGI, AGF and AGFL) and scans the AGF and AGI btre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FE299-AE3E-430F-AFAC-CFC151D3D9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3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AGI btree from phase2, scan the inode tree, processing the unlinked list for deleted inodes and finding possible missing inode clu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 all the found inodes, recording used filesytem blocks (ext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irectory inodes, scan the directory structure for more lost ino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d inodes are trashed including unrecoverable corrupted directo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0D574-BE12-44E2-BEE0-E320004BD6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4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inode extents again. Any inode with an extent covering used data is trash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B1123-D8C1-46AA-95A9-F4199EE7B4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5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build AG headers and structures including the AGI btree, AGF btrees and AGFL regardless whether any errors have been found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time inodes are also reconstru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01ADE-DFB4-4D25-8550-B83E153E7C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4:10Z</dcterms:modified>
  <cp:revision>335</cp:revision>
  <dc:subject/>
  <dc:title>Possible CXFS Administration and Monitoring Interfaces</dc:title>
</cp:coreProperties>
</file>