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B433C-7EF5-462A-A72E-B26C962BE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8899B-088F-4EC5-97F1-8315342F3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50D33-0F5E-40B0-AB07-69AB8EC82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5F914-73EE-4F65-ABD0-DB7846FAA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E7E8C-FC9B-48F4-91BF-A07BDD721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E5720-B187-4A92-B85E-AAE1A6465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F5126-B2AE-4660-9A24-0749950F5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69356-1135-4611-86EB-2574BA0B8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712F6-125E-4019-A839-E4FEC1D5E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BDB00-0F05-41F7-9FE6-F97E951E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5C5B9-1583-405E-AB22-9B56A7CC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E465E-F3D2-4DDE-A67C-5505FA77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754C4640-0DF7-4A66-9334-C71461FBBA7D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16 - Volume Manag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16 - Volume Manag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 and Volume Manager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Using XFS with md, device mapper, software ra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6 - Volume Manag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A8FC2-DB22-4389-94F7-2191FCC6D51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6 - Volume Manager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04223-8B5F-4855-BB79-8EFB295685A8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21:57:40Z</dcterms:modified>
  <cp:revision>331</cp:revision>
  <dc:subject/>
  <dc:title>Possible CXFS Administration and Monitoring Interfaces</dc:title>
</cp:coreProperties>
</file>