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74EC-BB36-4567-879A-0B05E25C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AD4B-7AD8-4634-A5F4-51279780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2B4D-2F75-45A5-AE04-710D02CE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B01E-6BD0-4839-8CC0-974263D8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6B1E-4486-49C1-94EE-651C759B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47D0-4D88-403A-B6D9-76FC10CA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52CB-4E84-4B94-BE12-6B7542B4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4A32-0E55-4D19-B649-1B9633AC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405B-CF21-4535-AB6F-C38CC7D7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854E-6B48-45D5-BB6B-EE7F0DC3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D68B-1143-4944-BB3C-10DA281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5D28-1E09-4974-AB4B-684307D0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6B08B1E0-8CCF-4686-B674-ED898599C69F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9 - Inter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fs_fill_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 a bhv_vfs struc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fs_alloc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initial behaviour module chain, for all bhv_module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insert_all_vfs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 mount option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parsear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end of this we have the final behaviour chain – e.g. if quota is not in use, its removed itself from the cha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bhv_remove_vfs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moun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m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ase XFS behaviour, we read the primary superblock, setup per-fs structures, does log recovery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quota behaviour, we do the quotacheck and dquot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13D1-8E76-4CBF-A1A6-C3EDF184DA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-T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440" y="1476360"/>
            <a:ext cx="914688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BB27-B377-40A9-9B68-D20220BC37C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nd Directory Oper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3A0D-77AC-4BAE-8003-CE0ACC3D8C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name Loo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851E-26F5-4636-BE73-EE1F84EAFC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reating a new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7F81-7FF5-44E2-8BB2-3A7406C329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ng a new in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AC99-3CA2-4C33-8BBF-AEBFE4BE42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dding name to directo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03CA-8E44-4631-A4CD-9D58CA1BC1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hanging file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5D6D-7A0E-4D4F-8C54-94EB8D30E8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riting to a new file / Appending to an existing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7E5B-0F8F-4181-B3FD-0547786AD2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ing from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419C-AE12-4AD8-B4C5-C52B11475F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Archite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BE35-79E0-4074-BFB9-1C280CC83F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ek and write to create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2E3B-C6C3-48B4-A41C-502EDECC21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 and write to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5837-C3CD-4BE3-A826-A408FBBA39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uncate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77EC-17D9-4F84-B1CD-7FCE22D2CC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pace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i / xfs_bmap_alloc  (the root of all evi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MAP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extent map f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ctual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unwritten extents to written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pace al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+Trees (“dat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b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itmaps (“realtim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r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stripe unit/width size/align, di_ext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EC68-2DE5-4C9D-A1E4-7FBC787A2F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mory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been a source of problems on the Linux XFS port, it is much improved now, how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 was very good at ensuring memory allocations succeeded, XFS written on IRIX... you do the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rocess flag added into Linux XFS zone (slab) allocation routines that make the allocator aware of memory allocations from within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A379-38EE-41ED-8BFA-A2C7705270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Buffe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uf.c and xfs_buf.h implements the XFS metadata buffer cache o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ag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“pinn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“private” buffer poi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ing, iodone semaphore for I/O wai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backs for: iodone, relse, pre-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core log buffers also implemented via xfs_buf_t and this causes some oddities in there – sub-buffer-sized I/Os, non-page-cache buff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address_space from b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8605-A107-44EB-9053-928BFD9387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I/O Comple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logd/N (per-CPU dae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s that handle I/O completion work for iclog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log_state_do_callbacks – runs multiple completions, depends on what was logged inside this iclog 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lso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buf_do_callbacks – typically, removing from AIL and freeing up buffer_item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atad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cover later, in the I/O path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sort of idea th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6D76-C88F-4782-9B90-09104E518B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ayed write buff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bu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thread, one per filesystem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buftarg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“buffer target”) hash table finding delayed writ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s timestamped when que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weak the age at which unpinned and dirty metadata buffers will be considered for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age_buffer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able daemon wakeup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xfsbufd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2449-9A10-47C2-8F68-595201D634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/O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nd write family of sys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buffered and direct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lrw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locking (i_mutex/iolock/i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write reserves space only, allocation at writeou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block_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ode, iblock, buffer_head, “create” fl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buffer_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_state, b_blocknr, b_size,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D2F3-91F3-4891-884F-536B1FB977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sync(2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implements an optimisation to sync(2) of meta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will only force the log out, such that any dirty metadata that is incore is written to the lo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metadata itself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cessarily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safe, since all change is o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data is guaranteed too (even barri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ze/thaw, remount,ro and unmount do guarantee both log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been bitten in the past, but fixed 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9860-ECAB-4D11-8301-BA2E94575A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vnodeo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FS system call interfaces are mapped to xfs functions in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vnode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vnodeops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_vnodeop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pen, close, fid, read, write, sendfile, splice, f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getattr, set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attributes -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ttr_get, attr_set, attr_list, attr_re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ccess, loo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permissions/ex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, remove, symlink, read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ular files, specia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ddir, mkdir, rmdir, rmdir, link, re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claim, release, inactive, iflush, bmap, flush_pages, flush_inval_pages, toss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/ page cache state and/o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D81C-2D25-49DF-88E6-5927205F60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ata write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by the VM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vm_writepag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page_state_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cache pages attached to inodes via a radix-tree (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-&gt;i_mapping and page-&gt;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oes its own writeout, sort of (due to delayed allocation and unwritten ext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through 2.6 writepa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use buffer_heads for per-fsbno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ioend_t - goes direct-to-bio for actual write, with &gt;1 page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79AA-D080-4F2C-A8EC-76CD0C0893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nsa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= xfs_trans_alloc(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reserve(tp, data, log, rt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make changes, allocate space, free spa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superblock/inode(s)/buffers/... to transaction, logging ranges within these objects, typically, e.g.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trans_log_inode(tp, ip, XFS_ILOG_CO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commit(t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BD97-33BD-4655-8979-702316344B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35920" cy="53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B63C-0CAD-4BBA-A2E1-2CD5C4D8618E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C72E-0DDE-4CEC-970A-013157BCF17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vnode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0F80-BA5E-40C9-AA95-98004A0B99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specific system calls (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ctl()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) are dispatched by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ioct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fs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linux-2.6/xfs_ioctl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, fscounts, [get|set]resblks, shutdown, freeze/th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level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[fs|fslog|fs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size (and maximum inode count)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et|set]xflags, fs[get|set]xattr, fs[get|set]xattra, dio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attribu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I/O parameters (min/max/al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sp, freesp, resvsp, unresv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llocation and/or pre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(sequential) inode's attributes –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dump, quotacheck,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-handle (open, fd-to-, path-to-, readlink, attrlist, attrmulti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inodes by “handles” (inum/igen/f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bmap, getbmapa, swap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data/attr fork exten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7717-B1F6-4BB2-867A-6274BF96C8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xfsc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9142-1A86-41D5-B792-C697737F9F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y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usr/src/linux/Documentation/fs/xf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ymlink_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links get mode 0777 by 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gid_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gid bit always inherited regardless of process g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mli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t inherit symbol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_cho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wn restricted to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orst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files in AG before rotating to nex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quo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i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dm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el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_buffer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of buffered data before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sync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sync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buf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buf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a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 accesstime trackin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du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dump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sync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_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error handling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_m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panic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1F53-0679-40C1-899D-3F15117DC5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ntry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unused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laim &gt;secs when short o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Calling shrink_dcache_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max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imum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file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s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ctive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ree inod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# &gt; inode-max so prune in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me as inode-state first two v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46B0-27C1-49B7-8FA9-03B91B24DB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ehaviou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27080" y="1905120"/>
            <a:ext cx="7096320" cy="34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47FB-FE90-4479-848F-C258E4A24F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2:32Z</dcterms:modified>
  <cp:revision>338</cp:revision>
  <dc:subject/>
  <dc:title>Possible CXFS Administration and Monitoring Interfaces</dc:title>
</cp:coreProperties>
</file>