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07E7-B380-43D0-B783-E0375D25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9E42-95C6-49A8-A043-BEE66025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4F45-8853-40DB-BF98-E8E9F684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873C-7061-4034-974E-7223FE67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C8E6-9814-4D88-8524-2A12E02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442D-1C56-4831-A8E1-32A23311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9BEB-A3AF-4257-9C02-1079164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E185-2EF2-4E9C-8793-BBD60F01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A1A7-F24C-4A53-91D3-F0D83A92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682F-C158-49CB-8FEE-292D562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5DA9-24FD-4EAA-BD30-5740747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3FB1-95DC-4C09-9FEE-F054ADD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3952561-9F48-4EA6-891D-1DE3C5C931B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3 -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IL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the AIL is moved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succ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su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bu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 locked – pushbuf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inn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p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lock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il was fl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restar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log writ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 log was 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4564-2730-4CB7-A967-6A87F33A79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Quota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_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quot_d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misse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in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qwant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ke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aked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active da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086F-63F9-4F57-B8C3-3A55AF2093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sta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misc/xfsstats.pl 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7C5D-C40A-4B07-93F8-0EF893F923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06F5-9CA5-478F-9C3C-72F57628FF4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nito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Dave Wright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8559-5F60-4F03-9979-6C3E4EC377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tch grep inode /proc/sla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ar –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ODO: Need to 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abtop -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the sl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0692-AC41-4CA7-984D-60B3349F44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Inod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emp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looks for ino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ou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 foun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recycl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fails because inode was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mis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had to go to disk for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d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times missed but found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reclai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recyled the inode’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rch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changed inod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lush_cou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s are being flu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c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s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inod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not able to in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6361-4882-4161-9366-19493DEDD8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Directory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 name directory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cre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re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tden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den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425E-1750-4D30-8F4F-F69F9B7636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File Attribut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g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” oper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s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se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remove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lis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lis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3DFD-1C8C-45D6-A469-055DA35875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llocation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llocation btree lookup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eee.compa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compares in alloc btre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ins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insert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del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delete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907F-1E89-453F-A32D-0A42159443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Block Map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read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write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un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add_ex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insertions fo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del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look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cmp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btre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comp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ins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del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5E75-536F-4141-832A-58BAFE5904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Journaling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nsactions waiting to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a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sync transaction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emp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hat did not do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uffe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lock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noiclo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entry attempt during memory fl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fs_log_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_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s_log_force_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77FD-50FB-48B9-9FC1-1B14F0A589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5:40Z</dcterms:modified>
  <cp:revision>343</cp:revision>
  <dc:subject/>
  <dc:title>Possible CXFS Administration and Monitoring Interfaces</dc:title>
</cp:coreProperties>
</file>