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99D93-5946-476D-BF92-D65768EC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F39A-7F6E-434C-9C77-492458CE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40C0-A5EB-484D-9EF0-340D6F5D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4C15-2B98-441B-991A-7070246F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7CED9-94D6-4F5C-9A1F-F1B6C368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87C2C-E11F-4870-B895-63DF0AE6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C991A-DFAF-4093-8F54-5AF113EA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EB03-0974-4721-826D-49FEF43D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2EB4-71FE-4810-8B94-C1523512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CF5A-A2CC-4E9F-88AC-7DDF1DA0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D3B2-EC29-4596-ABCF-02634AB7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01808-BD31-4C63-A024-1CBB1536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B61631E6-44A9-4FF1-A720-DD154B05EF26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2 - Tri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Q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F557-F351-4A66-83E1-AD7A68E573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Kerne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ktrace, strace, l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d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kernel debug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B, PAGE_ALLOC, SPINLOCKS, MUT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ebug (assert, runtime che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tracing option (event his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error injection option (xfs_io “inject”, fsst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7000-6068-4168-AB21-34C2A59BCF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Large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ways lack hardware to test the high end of filesystem size, inode cou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large sparse files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 to allocation group size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fs -dfile,name=/tmp/x,size=1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-o loop /tmp/x /mnt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tests/tools/ag-w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xfs_db to mark some AG's as “full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in QA (check/repair iss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repair undergoing surg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done all we can with thi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16DA-E166-40F6-93BD-26B9DB5C01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93E70-C469-4F79-B8CE-8BA47A12BAC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4:57Z</dcterms:modified>
  <cp:revision>338</cp:revision>
  <dc:subject/>
  <dc:title>Possible CXFS Administration and Monitoring Interfaces</dc:title>
</cp:coreProperties>
</file>