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E255-28EB-45BB-B5AB-277F78B5B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lbourne.sgi.com/dmf_and_friends/internals/DMAP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25A5-2D8F-488A-8115-D6F2B254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457D-90BA-46A0-A82A-2DEB0120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609B-88EB-458F-B80E-221885B8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ED78-7D1E-4CDF-8359-EF2F73D7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84C1-6726-48B2-8161-7397464F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74CA-8434-45CF-9EC9-5B4E0938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701F-27B4-453B-822A-4304DC6E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B339-630A-4BD4-BE45-D6EECB0B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E672-4DA9-453B-9CFD-47DC6092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3C3B-7792-464F-AA86-1777FA7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04FF-DA96-4251-8AB1-1736302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D1C4-C46A-43CC-9E4A-C75803F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1B986970-365D-4482-8B0D-4891655DF6C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engroup.org/pubs/catalog/c429.htm" TargetMode="External"/><Relationship Id="rId2" Type="http://schemas.openxmlformats.org/officeDocument/2006/relationships/hyperlink" Target="http://www.csu.edu.au/special/auugwww96/proceedings/alex/al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DM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Filesystem Admi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be mou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unm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mount succeeded/fai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s run out of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de has been read from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BAE0-C39A-4457-BBEE-0CAE90A3A2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Namesp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post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file or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/post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/postr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/pos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) 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link/post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sym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5F92-2541-45C6-BFF3-4F88DE832E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r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writ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about to be truncated to the specified address (away from or towards zer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F80A-9939-4FBE-AE08-88752373EF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Meta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's attribute has chan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 has been destr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reviously issued event is cancel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ilesystem object has been clo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0A99-1D7C-4A5D-A320-30F877FBE9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vents - Pseud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v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sage between cooperating DMAPI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1AEE-AD12-4D76-A549-0B3645282C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s and Disposi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uses sessions as the primary communication channels between DM application and the kernel component of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MAPI calls require a session arg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 and event lists allow DM application to exercise a fine contr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event delivery and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may direct different event types to different sessions and avoid session over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s indicate which event types should be delivered to this s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M application creates a session by calling dm_open_session() and then may register event dispositions for this session by calling dm_set_dis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63EC-3ED2-4100-A005-97AA8CD084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with Sess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sired events to b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eventlist_t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rigger mount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t disposition of tho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ient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ED49-7610-4006-805A-D22DD92CF6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disposition of events on a filesystem to a particula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turn_on_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a DMAPI attribute to return with destroy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E14A-54CD-467B-A0D9-22579F21E0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Managing Sessions - DMAPI function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new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estro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the specifi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0EEA-FAEC-49B8-A302-CF5775E5CC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cess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next available event 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spond-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one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y FS of slow applicatio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use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user pseudo-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nd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message to indicat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move_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event to anothe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A143-1E08-4D42-948C-6D1475E508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g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Data Management Interfaces Group consortium (DMIG), 1993-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ized access to filesystems for Hierarchical Storage Managers (HSMs) and backup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in SLES is used by vendors other than just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00B7-0054-4870-B110-40C7E0BC10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/assume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outstanding tokens for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find_even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essage for a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event dispositions for all filesystems for a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D5F8-F056-44B0-8C7B-5F8F57FF37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aged regions is the mechanism for an application to control file data access at a granularity level less than file size. It is an extent in the logical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 fl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yte-granularity events for all accesses/modifications of a file's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pply to file ob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non-overlapping byte ranges in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detect reads, writes, trun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, persistent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0C33-660A-4204-8AD3-60F234D428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D0AA-E6A8-4659-9407-D6543C670C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change mtime or atime (ctime chan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: 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generate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8920-1B94-4E54-98D4-A8A61DB9D2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robe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rounded result of the area where a hole is to be punc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unch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hole in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ad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a file bypassing DMAPI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write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a file bypassing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ync_by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 a file's data to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file attrib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file time stamps, ownership, mode, length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alloc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allocation info for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A1B9-59DB-4888-BDDF-D48334D768D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per file as SGI_DMI_xxx extended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across rebo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 stores in SGI_DMI_DMF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fid, fil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should be 512 bytes (-i size=5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E224-4541-4657-A645-82CBD300BD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/replac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move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ll DMAPI attributes for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748F-0F51-4C74-87EA-FDEDC71237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canning Filesystems Quickl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init_attr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 bulk attribute location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bulk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bulk attributes for entire file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bulk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data management attributes for entire file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5E03-28CD-42EC-A375-B382127370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 applications use the tokens to obtain access rights to file system objects to guarantee stability of th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session to control access/upd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atomic updates over many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may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right allows read-only access (DM_RIGHT_SH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ive right allows modification to the object (DM_RIGHT_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available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44DA-8CF5-48AE-89AC-DD5DDA1431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leas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all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set of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up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current right to exclu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own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grade current right to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in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quest_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 specific access r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F892-E067-4E80-AFCD-7854D4032A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176800"/>
            <a:ext cx="259740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218000">
            <a:off x="1668240" y="3478320"/>
            <a:ext cx="5265720" cy="1681200"/>
          </a:xfrm>
          <a:prstGeom prst="leftRightArrow">
            <a:avLst>
              <a:gd name="adj1" fmla="val 50000"/>
              <a:gd name="adj2" fmla="val 62352"/>
            </a:avLst>
          </a:prstGeom>
          <a:solidFill>
            <a:srgbClr val="c0b9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63480" y="2435400"/>
            <a:ext cx="839880" cy="184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581280" y="3317760"/>
            <a:ext cx="762120" cy="181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600" y="1219320"/>
            <a:ext cx="281664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Primary Storage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Online high-performance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2 to 1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urrent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32280"/>
            <a:ext cx="1954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30 day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81480"/>
            <a:ext cx="1752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12 month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351320"/>
            <a:ext cx="23637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32960" y="2805120"/>
            <a:ext cx="23619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8040" y="302112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3720" y="354636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84920" y="1371600"/>
            <a:ext cx="245700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Nearline Disk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High Capacity, Low cost, 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Lower performance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6 to 2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is years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00200" y="2895480"/>
            <a:ext cx="199368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Tape Library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Archive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hundreds to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ousands of hour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7515000" y="4641840"/>
            <a:ext cx="881280" cy="51912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934320" y="4003560"/>
            <a:ext cx="839520" cy="181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38360" y="2971800"/>
            <a:ext cx="5295960" cy="990720"/>
          </a:xfrm>
          <a:custGeom>
            <a:avLst/>
            <a:gdLst/>
            <a:ahLst/>
            <a:rect l="l" t="t" r="r" b="b"/>
            <a:pathLst>
              <a:path w="3240" h="576">
                <a:moveTo>
                  <a:pt x="3240" y="576"/>
                </a:moveTo>
                <a:lnTo>
                  <a:pt x="1880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DD9D-9EC7-4A60-814E-BC5935D100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MAPI 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tions must be us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able the DMAPI event call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dsm and dmi options are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tpt=mount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mountpoint specified here will be included in the DMAPI mount event, and should be the path of the actual mountpoint that is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rep dmapi /etc/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/mnt/scratch1 xfs dmapi,mtpt=/mnt/scratch1,defaults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on /mnt/scratch1 type xfs (rw,dmapi,mtpt=/mnt/scratch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FECE-5A40-4597-8F98-0C490E6E90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if there is no DMAPI module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unt -o logdev=/dev/sdb,dmapi,mtpt=/mnt/data /dev/sdd /mnt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unt: wrong fs type, bad option, bad superblock on /dev/sd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sing codepage or other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some cases useful info is found in syslog -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esg | tail  or 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mesg | tail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: unknown mount option [dmapi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eck that DMAPI is probed on boot and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ES10 set DMAPI_PROBE to yes in /etc/sysconfig/sys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out rebooting XFS with load dmapi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echo 1 &gt; /proc/sys/fs/xfs/probe_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lsmod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mapi              22936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api                  39728  1 xfs_dmapi,[permane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                   479796  4 xfs_dmapi,xfs_qu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5EEA-0530-4784-AFFB-8F84C357D1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DMAPI interfaces used by SGI’s HSM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of the bugs recently fixed in DMAPI did not impact SGI’s H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me DMAPI interfaces are not implemented by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taining 2.4/2.6 compatible code makes it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an is to remove 2.4 support from this code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requires two kernel changes that are not in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en_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F9DF-A7F6-40AB-9433-E070B3F25AC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Libra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.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HANGES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READ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1543-9BA7-4801-BD5F-6771863B1F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Development Pack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devel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include/xfs/dmapi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man/man3/dmapi.3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6C4D-C9BA-4892-BFF9-2E71780ACD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Kernel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rpm -qpl kernel-default-2.6.16.21-0.8.ia64.rpm | grep 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/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lesystem in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/xfs_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902C-680F-4FD7-A781-B632DD5EE9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Tri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C5DC-784E-451A-85B6-A535F80EA2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043C-008F-4431-8753-8154C92834C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conomic Benefi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4200" y="5452920"/>
            <a:ext cx="5459400" cy="36684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9920" y="4790520"/>
            <a:ext cx="124776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2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966080" y="3421080"/>
            <a:ext cx="44460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27840" y="3487680"/>
            <a:ext cx="1038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6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3852720"/>
            <a:ext cx="6122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System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c/MB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/o DMF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DMF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4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8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8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37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br>
              <a:rPr sz="1800"/>
            </a:b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DMF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tal Investment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3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640"/>
            <a:ext cx="4641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Example Environment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2TB data less than 30 days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6TB data between 30 days and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30TB data over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040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6200" y="1464120"/>
            <a:ext cx="1751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out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3800" y="1464120"/>
            <a:ext cx="1524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676840" y="191448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904160" y="193680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001000" y="4664160"/>
            <a:ext cx="452520" cy="97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95CC-5771-4EAD-B315-C08F560C04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do HSMs need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accesses/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pt or reject such accesses and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user processes block until the change has been ap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ss a file without knowing a path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read and change the contents of a file without bl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HSM-specific information persistently with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n all files in a filesystem quick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when filesystems become 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199D-EF22-40F9-9E74-18E70EAED9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Standard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Versions 2.1 and 2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Open Data Storage Management API (XDSM) - 2/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rigorous stand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70 function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40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available free in HTML format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opengroup.org/pubs/catalog/c429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Miroshnichenko’s paper from AUUG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u.edu.au/special/auugwww96/proceedings/alex/al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CB15-E07C-4231-8FBD-B9C5066522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ile access without path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milar to NFS file han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ndle is an opaque persistent identifier which is unique pe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change for the life of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are represented as variable length byte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* and size_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istence of a valid handle does not guarantee existence of the object referenced b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way to guarantee the existence of the object referred to by a handle is to either obtain a right or hold on the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andle 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handle - (used only in mount reque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ndle - (fsid has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handle - (fsid hash/fid_t structu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8BFB-DBB8-4098-ABA9-59F2461B4B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path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fd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system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the filesystem handle from a file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handle comparis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is_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if a handle is val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h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h contents of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storage allocated to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 pathname from two hand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31DC-B78D-4BE8-BAC6-53ABB9B7BC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Events and Toke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are messages from the kernel to a DMAPI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otification of accesses/changes to a file or file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ynchronous event is generated, the user process is suspended in the kernel until a DMAPI application issues an explicit response to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oken is a reference to the kernel state associated with a synchronou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events are for notification purpo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a completion (or failure) of certa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not block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ain handles, directory na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2CB8-4A3D-4450-90E9-5BC4DBE566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58Z</dcterms:modified>
  <cp:revision>335</cp:revision>
  <dc:subject/>
  <dc:title>Possible CXFS Administration and Monitoring Interfaces</dc:title>
</cp:coreProperties>
</file>