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57B4E-0836-476B-80F6-C201E2F59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3F815-D689-40AC-B4F5-592E62A2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C8897-3674-4E4D-9B3F-E251A5AE0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D6BF5-FE88-4614-9894-2A400A1F1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6C962-D430-4755-B211-C6DAD9A6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58F64-A883-446B-95A1-3984736F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DFC7E-2443-4DDF-960D-BB23151B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0413A-6A58-4C4B-B11F-EB2CAF23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C2E0D-6CB0-42EA-A78B-E5BCA9B7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FC007-0C10-4835-82BC-B567E4EB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3CAE7-D315-476E-9AD3-8C308558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E6EF6-4C0D-4294-ACD8-F086B516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E9B0D567-1ECF-4CA3-94BB-E891D8D23804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11 - Dump and Resto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– Resuming Dump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2D35D-EB1D-4CAA-A727-48409B02321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– Querying Dump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5E646-C5EF-49F9-8977-7107A1E6C4C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restore – Local Tap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FD834-CF89-4B83-B7FB-436253A84E8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restore – Remote Tap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0B6F5-8D38-4D3C-A8C8-ABEA392BF51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restore – Restore from Fi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7590E-721D-4356-BB8F-A41155851F0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restore - Interactiv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A256E-08B8-4CB9-9320-BFFA8BC27AD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restore – Cumulativ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A1A2F-B900-408F-AB90-444425D7C1C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o these still app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xfsdump/xfsrestore does not suppo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tape devices using multiple -f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IXdumpoption-z (prune large 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APIrelatedoptionsof-a and -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xfsdump/xfsrestore does, however, have the added capabilitie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restricted use of the -b option for blocksize specification and 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mping/restoring between Linux and IRIX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414F3-7ECD-4ED6-99F1-82A8B834D92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copy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7D1C9-2495-4EEF-BD41-443C0AE8B9D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6E36C-6641-42C8-ABD5-6D74A77A133B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Dump and Restor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is section descri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differences between xfsdump, xfs_copy and other backup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to use xfsdump and xfsrestore to backup and restore an XFS file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to use xfs_copy to copy an XFS file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8943E-1F05-4FB1-AD68-11FE777350A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ump vs Copy vs Backup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dump understands all the extensions in an XFS filesystem, so all attributes will be backed up and resto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_copy 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raditional backup applications may not backup all attributes, but they provide other management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ome are still limited to 32bit 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ome are BAPI aware which means they work with DMAPI and will not back up files that are already achieved by a HSM. Otherwise they would pull files off tape to backup onto other ta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BB8FA-A82C-48B4-9B89-011078AD052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- Featur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dump and xfsrestore support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features including 64-bit inode numbers, file lengths, and h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ular, directory, symbolic link, block and character special, FIFO, and socket file 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ain hard lin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media types (tape, fi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affect the state of the filesystem being dumped (for example, access times are retaine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restore detects and bypasses media errors and recovers rapidly after encountering th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dump does not crossmount points, local or rem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pport for automated and incremental back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FE62A-8C3D-4ED9-9DFD-CEC347D74D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– Media Layou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F4A61-21A2-4131-B509-3EFBA79D73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– Local Tap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00490-272D-4DB1-A214-1AD8869768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– Remote Tap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653D3-E5FE-4BB6-B177-54C38FC9A9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– Backup to a Fi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1E41F-4A65-46A1-828D-198E829F4E7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– Incremental Dump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8DD42-B05B-4219-A7D6-41EB2CABCD9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6:21Z</dcterms:modified>
  <cp:revision>340</cp:revision>
  <dc:subject/>
  <dc:title>Possible CXFS Administration and Monitoring Interfaces</dc:title>
</cp:coreProperties>
</file>