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95E9B-BDB4-41AC-B907-AF7B46BB7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2716E-ED1C-44AF-B661-C2CC8302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7F663-8998-4D8B-B572-CB2D5E6C1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61BC2-3568-4BA9-A6E7-B2720D06B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E38B6-8A52-44C6-A088-4DCEEDF9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2E1FA-5ECC-419A-AF40-70257130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51CD5-8609-4ED9-9939-15AC453C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D686D-3B60-4EA2-A537-3E0DF135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E7B3F-5EC6-4875-9068-EB9A956D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30C22-086C-4B38-B46E-640394F5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218EC-D776-4D7B-B878-348D5201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9C213-D3AB-49DF-8534-9734FC0E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355486C5-0C06-47E4-B04F-2D531646F973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02 - Over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Inod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has three inode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Ondisk i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Used for storing the metadata for all files, directories and other file 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By default 256 bytes but can be up to 2K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inux i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i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Linux and XFS inodes have different lifecycles, which can cause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0A0E7-8939-4572-AEA3-CF6156557A9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irectory and File Inod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79440" y="1359000"/>
            <a:ext cx="8383680" cy="4138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63CEE-ECDA-4990-A02F-4F2CE688EF1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Journal Log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1277C-022E-40A7-8834-CD49D1150FD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24D2E-48D0-4476-8F46-7ED79342477D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XFS Filesystem Structur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is section gives an overview of the structure of an XFS file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ore detailed examination of the filesystem structure is covered later in the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ee xfs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48F96-E8C7-4967-9967-A0BB3C4053B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Allocation Group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n XFS filesystem is divided evenly into allocation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n allocation group can be from 16MB to 1TB in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ach allocation group inclu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uper block information about the entire file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ree space management (within the allocation grou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ode allocation and tracking (with the allocation grou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ode clusters within an allocation group are created when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kfs.xfs does not pre-create inodes throughout the file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ee xfs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7B705-FE04-4BE7-A4F1-A34C0634BD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 Filesystem Structur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22160" y="963720"/>
            <a:ext cx="7697880" cy="493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B155D-BEE9-4F5C-9327-320CC29B280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260960" y="0"/>
            <a:ext cx="4883040" cy="600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E71FC-E47F-4315-9DE2-02622A92DBB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 Limit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32 bit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aximum File Size = 1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aximum Filesystem Size = T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64 bit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aximum File Size = 9 Million TB = 9 Ex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aximum Filesystem Size = 18 Million TB = 18 Ex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8E31A-7A46-4D18-9DF4-D8545799C7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Filesystem Block Size (FSB)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ilesystem blocks (FSBs) are the unit of space for a file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ilesystem blocks are comprised of one or more device-level sect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page management implementation in Linux limits the FSB size to the pag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4KB on ia32 and x86_64 archite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16KB on ia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BD on power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erformance can improve with different block sizes depending on the size of I/O requests and the size of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Larger blocks will also use more disk space for small (&lt;1FSB)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F0B34-C1E9-4E28-B8FD-736E59DC9B4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xtent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n extent is a set of one or more contiguous FSBs that define a region in the filesystem for file data or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 single extent can be up to 8GB in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file’s inode lists the extents associated with that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or very large files, the file’s inode may have thousands of extents, or one very large extent. Usually something in betwe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xtents are also used for file and directory metadata when the information exceeds the space reserved for an i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A1D2F-84AF-49B4-8775-BF6B78E851B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Unwritten Extent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BD312-9798-43EB-8DD2-7BE8570A2B1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19:34:39Z</dcterms:modified>
  <cp:revision>337</cp:revision>
  <dc:subject/>
  <dc:title>Possible CXFS Administration and Monitoring Interfaces</dc:title>
</cp:coreProperties>
</file>