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2C713-AD37-44E6-9628-5B5FB5D9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6D32E-22DB-448E-B3C7-BF5FC96A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07440-C16B-48D3-BCEB-1C2F3CD8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2FC82-46DF-4D4E-AD8F-41970BD8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D8D36-F78A-4E77-A7DF-D39FA8CB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09662-F893-428A-BEE3-49170316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DD68D-07E1-4DE7-B224-2F55582F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0FABD-D27B-4FC0-BC50-C4068A6E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DA48A-7B3B-4EA0-819F-C77AF0F4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C373D-8D12-496D-84C8-79FA3D69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A62B8-069E-41DA-A938-42A52908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218A2-B8B7-433B-B46F-7CF3E657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CD5ECC7C-4BE1-4BDA-95E7-08FAB6DF8793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7 – Extended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Extended Attribut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ended Attributes (EA) are a set of &lt;name,value&gt; pairs associated with an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o uses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ss Control Lists (AC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agle ind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me is a null terminated string &lt;= 255 ch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ue is binary data &lt;= 64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5B33D-2E62-4C02-B4E0-57FC2FF4374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Namespac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EA set is typically divided into namesp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Linux the namespace is the prefix of the EA na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u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XFS, the namespace is encoded in bits in a flags field with these val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er” has value of 0x0000 – by default an attribute is in the user name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define ATTR_ROOT       0x0002  /* use attrs in root (trusted) namespa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define ATTR_SECURE     0x0008  /* use attrs in security namespa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define ATTR_SYSTEM     0x0100  /* use attrs in system (pseudo) namespa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 for XFS, EAs are really a triple &lt;name, value, flag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79B48-EA59-44B1-A322-A848F09C71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Command Line Interfac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r package maintained by Andreas Gruenbacher and S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tfattr(1) for getting/listing 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tfattr(1) for setting and removing EA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mes are prefixed with the name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r command sets/removes/gets/lists 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sed on IRIX command, provides common interface for XFS 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mespace specified with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re closely models what XFS actually stores since names are the actual n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getfattr -e hex -dm '.*' fil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posix_acl_access=0x0200000001000600ffffffff040006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rusted.SGI_ACL_FILE=0x0000000400000001ffffffff0006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attr -Rl fil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ttribute "SGI_ACL_FILE" has a 52 byte value for file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C5AD9-E94D-42A4-A71A-458B3632F4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Ondisk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ame can actually be binary data since it has a length field 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FS kernel functions have been changed to handle binary names (used for future parent pointer EA'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FS EA's are stored in a variety of forms according to how big they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al or short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thin the i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tribute-fork extents in ei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filesystem leaf 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tree form with node blocks and leaf bl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tent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EA value can be in a remote filesystem block if it's la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2654C-BDFF-4FF5-A6A8-CDE9167D4D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Tun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using ACLs, every file access will require an EA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performance, it is important to keep the EA's within the inode in shor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ly a single filesystem block needs to be read 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Ls are a good example where the access checks occur frequ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increase the chance of being in shor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 the inode size, and/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able att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kfs.xfs –i size=512,attr=2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hort-form EA resides at the end of the inode and competes for space with the data ext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EE8E1-D1AF-41D3-9475-3B6D9EC098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and Attr2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r2 overcomes a restriction in the initial EA implementation that divided up the literal area at a fixed location (fork off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attr2 the fork offset i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476360" y="3284640"/>
            <a:ext cx="5827680" cy="1827000"/>
            <a:chOff x="1476360" y="3284640"/>
            <a:chExt cx="5827680" cy="1827000"/>
          </a:xfrm>
        </p:grpSpPr>
        <p:sp>
          <p:nvSpPr>
            <p:cNvPr id="105" name=""/>
            <p:cNvSpPr/>
            <p:nvPr/>
          </p:nvSpPr>
          <p:spPr>
            <a:xfrm>
              <a:off x="1476360" y="3284640"/>
              <a:ext cx="5827680" cy="1827000"/>
            </a:xfrm>
            <a:prstGeom prst="roundRect">
              <a:avLst>
                <a:gd name="adj" fmla="val 8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33200" y="3625560"/>
              <a:ext cx="125676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21430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core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31400" y="4538880"/>
              <a:ext cx="125712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21430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core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89960" y="3625560"/>
              <a:ext cx="182808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21430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u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18400" y="3625560"/>
              <a:ext cx="182808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21430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a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89960" y="3739320"/>
              <a:ext cx="914040" cy="342720"/>
            </a:xfrm>
            <a:prstGeom prst="rightArrow">
              <a:avLst>
                <a:gd name="adj1" fmla="val 50000"/>
                <a:gd name="adj2" fmla="val 66675"/>
              </a:avLst>
            </a:prstGeom>
            <a:solidFill>
              <a:srgbClr val="ded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18400" y="3739320"/>
              <a:ext cx="914040" cy="342720"/>
            </a:xfrm>
            <a:prstGeom prst="rightArrow">
              <a:avLst>
                <a:gd name="adj1" fmla="val 50000"/>
                <a:gd name="adj2" fmla="val 66675"/>
              </a:avLst>
            </a:prstGeom>
            <a:solidFill>
              <a:srgbClr val="ded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89960" y="4538880"/>
              <a:ext cx="365652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193824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u</a:t>
              </a: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	</a:t>
              </a: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a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89960" y="4653000"/>
              <a:ext cx="914040" cy="342720"/>
            </a:xfrm>
            <a:prstGeom prst="rightArrow">
              <a:avLst>
                <a:gd name="adj1" fmla="val 50000"/>
                <a:gd name="adj2" fmla="val 66675"/>
              </a:avLst>
            </a:prstGeom>
            <a:solidFill>
              <a:srgbClr val="ded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32440" y="4653000"/>
              <a:ext cx="914040" cy="342720"/>
            </a:xfrm>
            <a:prstGeom prst="leftArrow">
              <a:avLst>
                <a:gd name="adj1" fmla="val 50000"/>
                <a:gd name="adj2" fmla="val 66675"/>
              </a:avLst>
            </a:prstGeom>
            <a:solidFill>
              <a:srgbClr val="ded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3200" y="3396960"/>
              <a:ext cx="11426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5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"attr1" growth:</a:t>
              </a:r>
              <a:endParaRPr b="0" lang="en-US" sz="10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33200" y="4310640"/>
              <a:ext cx="11426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5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"attr2" growth:</a:t>
              </a:r>
              <a:endParaRPr b="0" lang="en-US" sz="10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4432680" y="3335040"/>
              <a:ext cx="1256760" cy="226800"/>
              <a:chOff x="4432680" y="3335040"/>
              <a:chExt cx="1256760" cy="226800"/>
            </a:xfrm>
          </p:grpSpPr>
          <p:sp>
            <p:nvSpPr>
              <p:cNvPr id="118" name=""/>
              <p:cNvSpPr/>
              <p:nvPr/>
            </p:nvSpPr>
            <p:spPr>
              <a:xfrm>
                <a:off x="4432680" y="3335040"/>
                <a:ext cx="1254960" cy="226800"/>
              </a:xfrm>
              <a:prstGeom prst="wedgeRectCallout">
                <a:avLst>
                  <a:gd name="adj1" fmla="val -3611"/>
                  <a:gd name="adj2" fmla="val 127777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63636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432680" y="3335040"/>
                <a:ext cx="125676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spcAft>
                    <a:spcPts val="99"/>
                  </a:spcAft>
                  <a:tabLst>
                    <a:tab algn="l" pos="0"/>
                    <a:tab algn="r" pos="21430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Fixed di_forkoff</a:t>
                </a:r>
                <a:endParaRPr b="0" lang="en-US" sz="800" spc="-1" strike="noStrike">
                  <a:solidFill>
                    <a:srgbClr val="363636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3075840" y="3625560"/>
              <a:ext cx="1080" cy="57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75840" y="4538880"/>
              <a:ext cx="1080" cy="57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32440" y="4538880"/>
              <a:ext cx="1440" cy="570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366160" y="4258080"/>
              <a:ext cx="1256760" cy="226440"/>
              <a:chOff x="5366160" y="4258080"/>
              <a:chExt cx="1256760" cy="226440"/>
            </a:xfrm>
          </p:grpSpPr>
          <p:sp>
            <p:nvSpPr>
              <p:cNvPr id="124" name=""/>
              <p:cNvSpPr/>
              <p:nvPr/>
            </p:nvSpPr>
            <p:spPr>
              <a:xfrm>
                <a:off x="5366160" y="4259520"/>
                <a:ext cx="1256760" cy="225000"/>
              </a:xfrm>
              <a:prstGeom prst="wedgeRectCallout">
                <a:avLst>
                  <a:gd name="adj1" fmla="val -5657"/>
                  <a:gd name="adj2" fmla="val 183888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63636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66160" y="4258080"/>
                <a:ext cx="1256760" cy="22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spcAft>
                    <a:spcPts val="99"/>
                  </a:spcAft>
                  <a:tabLst>
                    <a:tab algn="l" pos="0"/>
                    <a:tab algn="r" pos="21430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oving di_forkoff</a:t>
                </a:r>
                <a:endParaRPr b="0" lang="en-US" sz="800" spc="-1" strike="noStrike">
                  <a:solidFill>
                    <a:srgbClr val="36363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2DDC2-F8CC-4D91-8A32-79264BDBB2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and Backup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pio and tar do not backup and restore extended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 using extended attributes, an EA backup tool like xfsdump and xfsrestore must b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43E03-ACE8-4F93-9F37-14BEE85667D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A1128-59CF-4260-AE19-380F27533D9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59:40Z</dcterms:modified>
  <cp:revision>333</cp:revision>
  <dc:subject/>
  <dc:title>Possible CXFS Administration and Monitoring Interfaces</dc:title>
</cp:coreProperties>
</file>