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9F42D4-FDC7-47DB-8963-52A56A3C1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37680" y="372996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BCE8DD-7B03-49FE-A662-11401FCAB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000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65FCDA-2C46-451A-96B2-E1CD2F837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0292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6816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3768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0292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6816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0F4ED5-3CA4-4A19-821B-5445E6869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355680" y="263520"/>
            <a:ext cx="8447040" cy="30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0CBEF3-B23D-497F-8099-07918D9B5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8000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7680" y="372996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8000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0292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6816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3768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0292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6816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E68FB2-8787-4658-8208-5F8F0EE39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434882-37F4-4A66-B57A-5D3F79F95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C88743-A3E2-4EB8-B24E-9BD5A7198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55680" y="263520"/>
            <a:ext cx="8447040" cy="30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248B6C-7BD3-4CA0-BEF4-15BC687F1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6CA8B5-B6D2-45C3-B590-77C95F089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000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F5787E-0882-42BB-B2A9-BE10E6CD0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A51439-D5AE-4A9F-BEFA-336935EA6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012000"/>
            <a:ext cx="9144000" cy="0"/>
          </a:xfrm>
          <a:prstGeom prst="line">
            <a:avLst/>
          </a:prstGeom>
          <a:ln w="57240">
            <a:solidFill>
              <a:srgbClr val="44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213760" y="6264360"/>
            <a:ext cx="539640" cy="444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40099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36363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36363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2390400" y="6237360"/>
            <a:ext cx="119052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27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27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63636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3673440" y="6237360"/>
            <a:ext cx="190512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63636"/>
                </a:solidFill>
                <a:latin typeface="Arial"/>
              </a:rPr>
              <a:t>Page </a:t>
            </a:r>
            <a:fld id="{931011CB-B1DD-4A77-A247-09455B7D3E82}" type="slidenum">
              <a:rPr b="0" lang="en-US" sz="1000" spc="-1" strike="noStrike">
                <a:solidFill>
                  <a:srgbClr val="36363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225520" y="6199200"/>
            <a:ext cx="2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63636"/>
                </a:solidFill>
                <a:latin typeface="Arial"/>
              </a:rPr>
              <a:t>|</a:t>
            </a:r>
            <a:endParaRPr b="0" lang="en-US" sz="1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3537000" y="6199200"/>
            <a:ext cx="19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63636"/>
                </a:solidFill>
                <a:latin typeface="Arial"/>
              </a:rPr>
              <a:t>|</a:t>
            </a:r>
            <a:endParaRPr b="0" lang="en-US" sz="1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ftr" idx="3"/>
          </p:nvPr>
        </p:nvSpPr>
        <p:spPr>
          <a:xfrm>
            <a:off x="323640" y="6237360"/>
            <a:ext cx="192708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63636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rcRect l="13223" t="9376" r="18457" b="9336"/>
          <a:stretch/>
        </p:blipFill>
        <p:spPr>
          <a:xfrm>
            <a:off x="812880" y="1346040"/>
            <a:ext cx="3819600" cy="38721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991200" y="0"/>
            <a:ext cx="2148120" cy="6858000"/>
          </a:xfrm>
          <a:prstGeom prst="rect">
            <a:avLst/>
          </a:prstGeom>
          <a:solidFill>
            <a:srgbClr val="44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7486560" y="5400720"/>
            <a:ext cx="1214640" cy="9842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334800" y="423720"/>
            <a:ext cx="3962520" cy="2206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647800" y="2066760"/>
            <a:ext cx="406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3636"/>
                </a:solidFill>
                <a:latin typeface="Arial"/>
              </a:rPr>
              <a:t>Silicon Graphics, Inc.</a:t>
            </a:r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97000" y="2695320"/>
            <a:ext cx="5511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825800" y="569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6363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39480" y="6092640"/>
            <a:ext cx="192708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63636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63636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  <a:p>
            <a:pPr lvl="1" marL="401760"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300"/>
              </a:spcBef>
              <a:buClr>
                <a:srgbClr val="000000"/>
              </a:buClr>
              <a:buFont typeface="Helvetic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249"/>
              </a:spcBef>
              <a:buClr>
                <a:srgbClr val="000000"/>
              </a:buClr>
              <a:buFont typeface="Helvetic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249"/>
              </a:spcBef>
              <a:buClr>
                <a:srgbClr val="36363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249"/>
              </a:spcBef>
              <a:buClr>
                <a:srgbClr val="36363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4360" y="2695320"/>
            <a:ext cx="6024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XFS Overview &amp; Internals</a:t>
            </a:r>
            <a:br>
              <a:rPr sz="3200"/>
            </a:b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04 - mkf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150560" y="4743000"/>
            <a:ext cx="55753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XFS Slides 04 - mkf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mkfs – Filesystem Image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mkfs allows you to create a filesystem as a regular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This can be used to create a filesystem on a loop-back de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urier New"/>
              </a:rPr>
              <a:t>mkfs –d file=1,name</a:t>
            </a:r>
            <a:r>
              <a:rPr b="0" i="1" lang="en-AU" sz="1800" spc="-1" strike="noStrike">
                <a:solidFill>
                  <a:srgbClr val="000000"/>
                </a:solidFill>
                <a:latin typeface="Courier New"/>
              </a:rPr>
              <a:t>=filename,</a:t>
            </a:r>
            <a:r>
              <a:rPr b="0" lang="en-AU" sz="1800" spc="-1" strike="noStrike">
                <a:solidFill>
                  <a:srgbClr val="000000"/>
                </a:solidFill>
                <a:latin typeface="Courier New"/>
              </a:rPr>
              <a:t>size=2g </a:t>
            </a:r>
            <a:r>
              <a:rPr b="0" i="1" lang="en-AU" sz="1800" spc="-1" strike="noStrike">
                <a:solidFill>
                  <a:srgbClr val="000000"/>
                </a:solidFill>
                <a:latin typeface="Courier New"/>
              </a:rPr>
              <a:t>file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4 - mkf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F978F2-E2EB-4BDB-88CE-576BEB3FE624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mkfs – Prototype Filesystem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TO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4 - mkf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6C3A01-B217-4E41-A59C-A5FEF6FD2943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057400" y="1295280"/>
            <a:ext cx="4813200" cy="3846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4 - mkf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31A8A1-7271-468C-84CA-494AD7EB7BE2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 u="sng">
                <a:solidFill>
                  <a:srgbClr val="440099"/>
                </a:solidFill>
                <a:uFillTx/>
                <a:latin typeface="Arial"/>
              </a:rPr>
              <a:t>Creating XFS Filesystem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mkfs.xfs supports a large number of options for configuration a large number of different XFS file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See mkfs.xfs(8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Un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Courier New"/>
              </a:rPr>
              <a:t>100s = 100 sectors = 100 x 512 bytes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Courier New"/>
              </a:rPr>
              <a:t>100b = 100 blocks = 100 x 4 kilobytes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Courier New"/>
              </a:rPr>
              <a:t>100k = 100 * 1024 by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Courier New"/>
              </a:rPr>
              <a:t>Assuming 512 bytes sectors and 4 KB filesystem blo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-N option can be used to show filesystem parameters without creating a file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Also provides the capability to pre-initialise the filesystem with directories and  inodes, which is useful for te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4 - mkf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FEF3E8-B1FB-4BDB-B14A-5E8CA86BB2BE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mkfs – Stripe Alignment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Aligning file data on stripe width boundaries can significantly improve performance on large RAI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A 2MB write to filesystem with a 2MB stripe width and 512KB stripe unit will result in four I/Os, one to each lun. Without alignment this would often require two I/Os to one disk, and one I/O to the other three, taking longer than it shoul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To create a filesystem with a stripe unit of 1MB for an 8+1 RAID you would u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urier New"/>
              </a:rPr>
              <a:t>mkfs –d sunit=2048,swidth=16384 </a:t>
            </a:r>
            <a:r>
              <a:rPr b="0" i="1" lang="en-AU" sz="1800" spc="-1" strike="noStrike">
                <a:solidFill>
                  <a:srgbClr val="000000"/>
                </a:solidFill>
                <a:latin typeface="Courier New"/>
              </a:rPr>
              <a:t>de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urier New"/>
              </a:rPr>
              <a:t>mkfs –d su=1m,sw=8m </a:t>
            </a:r>
            <a:r>
              <a:rPr b="0" i="1" lang="en-AU" sz="1800" spc="-1" strike="noStrike">
                <a:solidFill>
                  <a:srgbClr val="000000"/>
                </a:solidFill>
                <a:latin typeface="Courier New"/>
              </a:rPr>
              <a:t>de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4 - mkf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339439-565D-443E-A9D5-816266169EE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mkfs – Inode Option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The mkfs inode options allow the user to ch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The size of the inode from the default 256 bytes to up 2048 by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The maximum number of inodes in the filesystem, defaults to 25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Extended attribute allocation poli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These options may imp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where the inode is allocated in file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how much data needs to be read from disk to read the in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how much data may be associated with the inode before data goes out of 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To allocate 512 bytes to each inod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urier New"/>
              </a:rPr>
              <a:t>mkfs –i size=512 </a:t>
            </a:r>
            <a:r>
              <a:rPr b="0" i="1" lang="en-AU" sz="1800" spc="-1" strike="noStrike">
                <a:solidFill>
                  <a:srgbClr val="000000"/>
                </a:solidFill>
                <a:latin typeface="Courier New"/>
              </a:rPr>
              <a:t>de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4 - mkf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0A5532-2E2E-4507-B76D-43579654E41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mkfs – Directory Option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TO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4 - mkf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D1F8E4-6F23-48F5-A381-1F6733AB34B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mkfs – Sector Size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TO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4 - mkf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CD6180-9BCF-41D8-8FD2-F1D43718527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mkfs – External Log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The journal log can be on a different device to the rest of the file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At least 512 block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No more than 64K blocks or 128MB, whichever is smal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Defaults to maximum size for &gt;1TB file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Log device could be a device with better IOPS performan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15K RPM disk or battery-backed memo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urier New"/>
              </a:rPr>
              <a:t>mkfs.xfs –l logdev=</a:t>
            </a:r>
            <a:r>
              <a:rPr b="0" i="1" lang="en-AU" sz="1800" spc="-1" strike="noStrike">
                <a:solidFill>
                  <a:srgbClr val="000000"/>
                </a:solidFill>
                <a:latin typeface="Courier New"/>
              </a:rPr>
              <a:t>log_device de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urier New"/>
              </a:rPr>
              <a:t>mount –o logdev=</a:t>
            </a:r>
            <a:r>
              <a:rPr b="0" i="1" lang="en-AU" sz="1800" spc="-1" strike="noStrike">
                <a:solidFill>
                  <a:srgbClr val="000000"/>
                </a:solidFill>
                <a:latin typeface="Courier New"/>
              </a:rPr>
              <a:t>log_device device pa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059280" y="4869000"/>
            <a:ext cx="576000" cy="1008000"/>
          </a:xfrm>
          <a:prstGeom prst="can">
            <a:avLst>
              <a:gd name="adj" fmla="val 25000"/>
            </a:avLst>
          </a:prstGeom>
          <a:solidFill>
            <a:srgbClr val="ff9900"/>
          </a:solidFill>
          <a:ln w="9360">
            <a:solidFill>
              <a:srgbClr val="3636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643280" y="4869000"/>
            <a:ext cx="1224000" cy="1008000"/>
          </a:xfrm>
          <a:prstGeom prst="can">
            <a:avLst>
              <a:gd name="adj" fmla="val 25000"/>
            </a:avLst>
          </a:prstGeom>
          <a:solidFill>
            <a:srgbClr val="0000ff"/>
          </a:solidFill>
          <a:ln w="9360">
            <a:solidFill>
              <a:srgbClr val="3636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627280" y="436572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363636"/>
                </a:solidFill>
                <a:latin typeface="Arial"/>
              </a:rPr>
              <a:t>Journal Log</a:t>
            </a:r>
            <a:endParaRPr b="0" lang="en-US" sz="18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572000" y="436572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363636"/>
                </a:solidFill>
                <a:latin typeface="Arial"/>
              </a:rPr>
              <a:t>File Data</a:t>
            </a:r>
            <a:endParaRPr b="0" lang="en-US" sz="18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4 - mkf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455007-31B9-40EF-BF9D-9B977EA9FBC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mkfs – Log Alignment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TO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4 - mkf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61F4C3-CF58-430A-B660-6551D0757ACD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mkfs - Realtime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37680" y="1461960"/>
            <a:ext cx="8474040" cy="29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Originally designed for media streaming requiring predictable latenc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Realtime volume tuned for large files without small inode clust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Metadata and file data on separate volu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Bitmap allocator only has to manage file data alloc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Courier New"/>
              </a:rPr>
              <a:t>mkfs.xfs –l logdev=</a:t>
            </a:r>
            <a:r>
              <a:rPr b="0" i="1" lang="en-AU" sz="1600" spc="-1" strike="noStrike">
                <a:solidFill>
                  <a:srgbClr val="000000"/>
                </a:solidFill>
                <a:latin typeface="Courier New"/>
              </a:rPr>
              <a:t>log_device </a:t>
            </a:r>
            <a:r>
              <a:rPr b="0" lang="en-AU" sz="1600" spc="-1" strike="noStrike">
                <a:solidFill>
                  <a:srgbClr val="000000"/>
                </a:solidFill>
                <a:latin typeface="Courier New"/>
              </a:rPr>
              <a:t>–r rtdev=</a:t>
            </a:r>
            <a:r>
              <a:rPr b="0" i="1" lang="en-AU" sz="1600" spc="-1" strike="noStrike">
                <a:solidFill>
                  <a:srgbClr val="000000"/>
                </a:solidFill>
                <a:latin typeface="Courier New"/>
              </a:rPr>
              <a:t>rt_device dev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Courier New"/>
              </a:rPr>
              <a:t>mount –o logdev=</a:t>
            </a:r>
            <a:r>
              <a:rPr b="0" i="1" lang="en-AU" sz="1600" spc="-1" strike="noStrike">
                <a:solidFill>
                  <a:srgbClr val="000000"/>
                </a:solidFill>
                <a:latin typeface="Courier New"/>
              </a:rPr>
              <a:t>log_device</a:t>
            </a:r>
            <a:r>
              <a:rPr b="0" lang="en-AU" sz="1600" spc="-1" strike="noStrike">
                <a:solidFill>
                  <a:srgbClr val="000000"/>
                </a:solidFill>
                <a:latin typeface="Courier New"/>
              </a:rPr>
              <a:t>,rtdev=</a:t>
            </a:r>
            <a:r>
              <a:rPr b="0" i="1" lang="en-AU" sz="1600" spc="-1" strike="noStrike">
                <a:solidFill>
                  <a:srgbClr val="000000"/>
                </a:solidFill>
                <a:latin typeface="Courier New"/>
              </a:rPr>
              <a:t>rt_device device pa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1600" spc="-1" strike="noStrike">
                <a:solidFill>
                  <a:srgbClr val="000000"/>
                </a:solidFill>
                <a:latin typeface="Arial"/>
              </a:rPr>
              <a:t>rt_device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 is the device for the file data, </a:t>
            </a:r>
            <a:r>
              <a:rPr b="0" i="1" lang="en-AU" sz="1600" spc="-1" strike="noStrike">
                <a:solidFill>
                  <a:srgbClr val="000000"/>
                </a:solidFill>
                <a:latin typeface="Arial"/>
              </a:rPr>
              <a:t>device 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is for the meta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Receives limited testing and support in Linu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979640" y="4869000"/>
            <a:ext cx="576360" cy="1008000"/>
          </a:xfrm>
          <a:prstGeom prst="can">
            <a:avLst>
              <a:gd name="adj" fmla="val 25000"/>
            </a:avLst>
          </a:prstGeom>
          <a:solidFill>
            <a:srgbClr val="ff9900"/>
          </a:solidFill>
          <a:ln w="9360">
            <a:solidFill>
              <a:srgbClr val="3636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348000" y="4869000"/>
            <a:ext cx="647640" cy="1008000"/>
          </a:xfrm>
          <a:prstGeom prst="can">
            <a:avLst>
              <a:gd name="adj" fmla="val 25000"/>
            </a:avLst>
          </a:prstGeom>
          <a:solidFill>
            <a:srgbClr val="99cc66"/>
          </a:solidFill>
          <a:ln w="9360">
            <a:solidFill>
              <a:srgbClr val="3636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547640" y="436572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363636"/>
                </a:solidFill>
                <a:latin typeface="Arial"/>
              </a:rPr>
              <a:t>Journal Log</a:t>
            </a:r>
            <a:endParaRPr b="0" lang="en-US" sz="18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059280" y="4365720"/>
            <a:ext cx="12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363636"/>
                </a:solidFill>
                <a:latin typeface="Arial"/>
              </a:rPr>
              <a:t>Metadata</a:t>
            </a:r>
            <a:endParaRPr b="0" lang="en-US" sz="18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643280" y="4869000"/>
            <a:ext cx="1224000" cy="1008000"/>
          </a:xfrm>
          <a:prstGeom prst="can">
            <a:avLst>
              <a:gd name="adj" fmla="val 25000"/>
            </a:avLst>
          </a:prstGeom>
          <a:solidFill>
            <a:srgbClr val="0000ff"/>
          </a:solidFill>
          <a:ln w="9360">
            <a:solidFill>
              <a:srgbClr val="3636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0" y="436572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363636"/>
                </a:solidFill>
                <a:latin typeface="Arial"/>
              </a:rPr>
              <a:t>File Data</a:t>
            </a:r>
            <a:endParaRPr b="0" lang="en-US" sz="18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4 - mkf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B69219-B93A-4EEC-A27C-3E880B03CEC2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7T10:54:15Z</dcterms:created>
  <dc:creator>David Chatterton</dc:creator>
  <dc:description/>
  <dc:language>en-US</dc:language>
  <cp:lastModifiedBy>chatz</cp:lastModifiedBy>
  <dcterms:modified xsi:type="dcterms:W3CDTF">2006-10-30T19:36:17Z</dcterms:modified>
  <cp:revision>338</cp:revision>
  <dc:subject/>
  <dc:title>Possible CXFS Administration and Monitoring Interfaces</dc:title>
</cp:coreProperties>
</file>