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47245"/>
        <c:axId val="3144021"/>
      </c:barChart>
      <c:catAx>
        <c:axId val="75447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4021"/>
        <c:crosses val="autoZero"/>
        <c:auto val="1"/>
        <c:lblAlgn val="ctr"/>
        <c:lblOffset val="100"/>
        <c:noMultiLvlLbl val="0"/>
      </c:catAx>
      <c:valAx>
        <c:axId val="314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7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9F1-D0DA-4B3F-A377-135EF6DF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8AF-D37D-4ADF-A32F-58964A6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E5E-CAFF-444B-BBD0-D225992F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DAF-C5A4-4EFD-BE87-48271AEF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E39-6ED3-4BF2-806C-E531A5B6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8D9-E1F7-40FB-8CA9-F7BED7B2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B25-9168-4C6D-86A0-A6C596F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900-CA13-43F7-89CB-92AD1A40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B0-0679-4F2C-AF3B-B4A0A613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2BC-9BC2-4169-8DD4-9B87108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C73-001B-4016-8C16-C682AA7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395-D219-4F75-AB2C-86A24647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89B95-6245-4F95-963B-B093A225D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