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13453"/>
        <c:axId val="67703114"/>
      </c:barChart>
      <c:catAx>
        <c:axId val="44213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03114"/>
        <c:crosses val="autoZero"/>
        <c:auto val="1"/>
        <c:lblAlgn val="ctr"/>
        <c:lblOffset val="100"/>
        <c:noMultiLvlLbl val="0"/>
      </c:catAx>
      <c:valAx>
        <c:axId val="67703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13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B2B-E9F1-4FBA-838D-328B6BB0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B70-C1C5-4890-933C-3135191B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EDC0-1A1F-420F-9FD2-909D6FC2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EB2-AE70-45D6-B49A-52DCAEBF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1EB-7B08-4125-B78B-93526A89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7C8-0614-4F1D-9638-5A358F0D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E78-7C1D-4027-AB4C-D167EF25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EA9-9E60-4A57-8C96-2FAF9BA8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C64-262D-4FB7-9897-65A2C9CC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B17-19DE-4AF5-9343-AAB07151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C5B-0DE9-4FBD-B108-C2FFECE3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9285-8609-492F-AB6B-950C91D5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35D04-3E09-48B7-B1E3-C16A285D9A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