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491113"/>
        <c:axId val="80844646"/>
      </c:barChart>
      <c:catAx>
        <c:axId val="394911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44646"/>
        <c:crosses val="autoZero"/>
        <c:auto val="1"/>
        <c:lblAlgn val="ctr"/>
        <c:lblOffset val="100"/>
        <c:noMultiLvlLbl val="0"/>
      </c:catAx>
      <c:valAx>
        <c:axId val="808446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911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49AA-3AEB-4447-A42B-13B123F2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9FB6-4D6A-451D-9289-CB137893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031D-582E-4196-8CF7-7408FBB1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08C7-C76B-4B34-84CA-C360BFA9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5530-FEE5-4B5D-89A1-AA60FD02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932A-851D-46A1-8110-A4797DAF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E030-1FC8-45B8-A82F-6B5295BF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DE74-52E2-4E50-8BF6-68DF4920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C433-DECF-44DA-9113-9C18DCFA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B3C8-F209-4415-8B8F-9510B6DB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4F94-2678-4D8F-AB94-8B6B1193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3FF6-12F7-4606-80E7-BF4233C5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FB497-2AFC-4416-A0B1-63ADB0B829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