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07442"/>
        <c:axId val="11906398"/>
      </c:barChart>
      <c:catAx>
        <c:axId val="800074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06398"/>
        <c:crosses val="autoZero"/>
        <c:auto val="1"/>
        <c:lblAlgn val="ctr"/>
        <c:lblOffset val="100"/>
        <c:noMultiLvlLbl val="0"/>
      </c:catAx>
      <c:valAx>
        <c:axId val="11906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074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72B-F40B-4768-AA12-0960DF13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C6D-BEBA-4C4C-A739-452785C1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D437-3CE6-4524-AF53-AC2EB7D0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81C9-2CD9-4BC3-917A-9796930C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DABF-B677-464A-A4E4-E9DC7B0C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92B-1F6C-40B7-9AF9-CFFD079D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874-63B0-4EF4-A37E-AFDC6F55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A63C-4F5F-491C-BD74-73AF5A49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FBA-C512-40B2-9425-0F25A8ED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C427-BA48-4F86-A3E9-691FF3FF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0CEE-2E9A-48F8-9036-2C31D4CC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F8FB-DCF1-4770-B4A5-32A09B56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B365D-EB2A-4FE5-A59C-3DC59CA31A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