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09518"/>
        <c:axId val="10782473"/>
      </c:barChart>
      <c:catAx>
        <c:axId val="41709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82473"/>
        <c:crosses val="autoZero"/>
        <c:auto val="1"/>
        <c:lblAlgn val="ctr"/>
        <c:lblOffset val="100"/>
        <c:noMultiLvlLbl val="0"/>
      </c:catAx>
      <c:valAx>
        <c:axId val="10782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09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BEE-69AF-4E22-913C-EFDC74E9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48D-CE25-4723-AC98-01ACA6E1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4C8-34D6-476F-9CB7-B3243821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14C-CCE8-44E2-9E48-D14138D9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D53-D88D-46F3-B429-283BDAF8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8A9-3473-46B4-A5CC-2E170B2C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AB9-FF34-4B25-B893-3DBBE84E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441-43B0-4FCA-8609-A18230D0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191-6450-4476-AE74-8C4921BC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F47-D9AB-45FD-8C02-A95CD8B1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CA7-F6BF-416A-806D-A00AA83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B22-72D6-412A-B79E-FF80BDB3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8E740-326F-416A-AB6E-33961A5D47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