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0395323"/>
        <c:axId val="40215977"/>
      </c:barChart>
      <c:catAx>
        <c:axId val="4039532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215977"/>
        <c:crosses val="autoZero"/>
        <c:auto val="1"/>
        <c:lblAlgn val="ctr"/>
        <c:lblOffset val="100"/>
        <c:noMultiLvlLbl val="0"/>
      </c:catAx>
      <c:valAx>
        <c:axId val="4021597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9532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834E-412A-42AB-B645-2DBBDE9140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0057-95EC-478D-A918-53E296E805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DAA57-DE91-43A3-8D9F-6A1284342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F17F-A539-4285-9CF3-D1CC681749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6BCA0-3996-46F0-94DC-32D4E4276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E353A-6696-4198-B73A-8F157917D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DE150-0674-45DF-90FD-61F13764D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5984B-70FD-459A-8BF2-4E2F65C045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1423-9F1D-42D6-83F0-39CF420F80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BF21-41F1-45FF-845C-BE3CA023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5F98-EDE0-455C-AF53-95DA51195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49CF0-4671-4088-A690-67B972721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F2F30-8CE9-43B0-A5FE-BC23608DCCA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