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133780"/>
        <c:axId val="35516043"/>
      </c:barChart>
      <c:catAx>
        <c:axId val="201337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16043"/>
        <c:crosses val="autoZero"/>
        <c:auto val="1"/>
        <c:lblAlgn val="ctr"/>
        <c:lblOffset val="100"/>
        <c:noMultiLvlLbl val="0"/>
      </c:catAx>
      <c:valAx>
        <c:axId val="355160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337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9165-7233-4CE8-AC0D-A98D8DF3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FEE5-02C3-40E1-B0F8-8C273AE8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183D-C04D-4298-8C73-E5285F5CC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E631-4CFB-46A1-B312-85593CFD9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C5DD-BC23-4C35-AD60-5EFB3062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1CEE-D246-498D-AE47-24D8A17C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C341-5BDD-42E7-B1A1-C6BD9DE9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1CB7-BF2A-4400-98D9-462632F3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A9D8-3162-4FA0-B088-455889CF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A7BD-8895-4288-BA44-28626F4B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767F-2683-41DD-BE33-D036BB66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C2A1-46C1-4251-BE6D-769D34FE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84E99-1889-4DEA-9386-4772F5A8B6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